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7180-764F-4329-B279-1CAD81FE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F73-04C1-4541-AE5B-5DBD65272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4778-6A41-4CC1-AF68-1C23E72B4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C6E7-30F5-4F79-9470-0A883DDE7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8082-7CBF-473C-9B46-CAF7898F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A368-21AB-41F1-B2F2-14A4E7A11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B5B3-0507-46E2-93F9-255F1AB3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E3CE-3079-4A7F-896B-2E8275417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10DB-116F-43BB-963C-4B298130E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usic Man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-457200" y="4038480"/>
            <a:ext cx="99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esson 3.1 – Industry Segment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867280" y="6324480"/>
            <a:ext cx="32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3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3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Intro to Basic SEM Princi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5"/>
          <p:cNvSpPr/>
          <p:nvPr/>
        </p:nvSpPr>
        <p:spPr>
          <a:xfrm>
            <a:off x="114300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ustry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952880" y="228600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ndustry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ing of similar types of products or services offered to consumers by businesses within the sam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0" y="1752480"/>
            <a:ext cx="0" cy="4114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52280" y="257580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There are many segments of the sports and entertainment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90720"/>
            <a:ext cx="914400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2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3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Intro to Basic SEM Princi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6"/>
          <p:cNvSpPr/>
          <p:nvPr/>
        </p:nvSpPr>
        <p:spPr>
          <a:xfrm>
            <a:off x="114300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ustry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982520" y="167580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egments In Sports Business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228600" y="251460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785880" y="2666880"/>
            <a:ext cx="2961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Sports Tou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Sporting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Sports Appa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Amateur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Olympic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High School Athl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Collegiate Athl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Professional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Motor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800600" y="2666880"/>
            <a:ext cx="3886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Re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Outdoor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Health Clubs / F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Sports Marketing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Even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Governing 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Fac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Action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bally_pStamp_90x70"/>
          <p:cNvPicPr/>
          <p:nvPr/>
        </p:nvPicPr>
        <p:blipFill>
          <a:blip r:embed="rId2"/>
          <a:stretch/>
        </p:blipFill>
        <p:spPr>
          <a:xfrm>
            <a:off x="152280" y="1066680"/>
            <a:ext cx="457200" cy="357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533520" cy="190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Gatorade"/>
          <p:cNvPicPr/>
          <p:nvPr/>
        </p:nvPicPr>
        <p:blipFill>
          <a:blip r:embed="rId4"/>
          <a:stretch/>
        </p:blipFill>
        <p:spPr>
          <a:xfrm>
            <a:off x="8381880" y="1066680"/>
            <a:ext cx="533520" cy="43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espn"/>
          <p:cNvPicPr/>
          <p:nvPr/>
        </p:nvPicPr>
        <p:blipFill>
          <a:blip r:embed="rId5"/>
          <a:stretch/>
        </p:blipFill>
        <p:spPr>
          <a:xfrm>
            <a:off x="8305920" y="1600200"/>
            <a:ext cx="609480" cy="16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pgatour_logo_79x100"/>
          <p:cNvPicPr/>
          <p:nvPr/>
        </p:nvPicPr>
        <p:blipFill>
          <a:blip r:embed="rId6"/>
          <a:stretch/>
        </p:blipFill>
        <p:spPr>
          <a:xfrm>
            <a:off x="152280" y="1981080"/>
            <a:ext cx="331920" cy="4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nbalogo1"/>
          <p:cNvPicPr/>
          <p:nvPr/>
        </p:nvPicPr>
        <p:blipFill>
          <a:blip r:embed="rId7"/>
          <a:stretch/>
        </p:blipFill>
        <p:spPr>
          <a:xfrm>
            <a:off x="8534520" y="1905120"/>
            <a:ext cx="220680" cy="533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90720"/>
            <a:ext cx="914400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1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3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Intro to Basic SEM Princi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5"/>
          <p:cNvSpPr/>
          <p:nvPr/>
        </p:nvSpPr>
        <p:spPr>
          <a:xfrm>
            <a:off x="114300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ustry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401480" y="1904400"/>
            <a:ext cx="642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egments In Entertainment Business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228600" y="251460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98880" y="3048120"/>
            <a:ext cx="3118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Filmed Enter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Televisio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Televis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Recorded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Video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Radio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Internet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038480" y="3048120"/>
            <a:ext cx="48769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Publishing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Digital Media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Broadcasting-Satellit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Theatre &amp; Performing A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Casinos &amp;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Fine 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Theme Parks / Amusement 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MGMlogo(hazy)"/>
          <p:cNvPicPr/>
          <p:nvPr/>
        </p:nvPicPr>
        <p:blipFill>
          <a:blip r:embed="rId3"/>
          <a:stretch/>
        </p:blipFill>
        <p:spPr>
          <a:xfrm>
            <a:off x="8077320" y="990720"/>
            <a:ext cx="838080" cy="51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ABC.com"/>
          <p:cNvPicPr/>
          <p:nvPr/>
        </p:nvPicPr>
        <p:blipFill>
          <a:blip r:embed="rId4"/>
          <a:stretch/>
        </p:blipFill>
        <p:spPr>
          <a:xfrm>
            <a:off x="8305920" y="160020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reprise_front1h"/>
          <p:cNvPicPr/>
          <p:nvPr/>
        </p:nvPicPr>
        <p:blipFill>
          <a:blip r:embed="rId5"/>
          <a:stretch/>
        </p:blipFill>
        <p:spPr>
          <a:xfrm>
            <a:off x="152280" y="1600200"/>
            <a:ext cx="1143000" cy="312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1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1295280"/>
            <a:ext cx="16700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 to SEM Business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3.1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447920" y="1371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nd provide examples o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por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entertainment industr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02920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928880" y="2286000"/>
            <a:ext cx="2961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ports Tou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porting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ports Appa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mateur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lympic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High School Athl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llegiate Athl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fessional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otor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952880" y="2286000"/>
            <a:ext cx="3886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Re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utdoor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Health Clubs / F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ports Marketing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ven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overning 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ac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ction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295280"/>
            <a:ext cx="16700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 to SEM Business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3.1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47920" y="1371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nd provide examples of spor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ntertain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dustr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02920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470040" y="2438280"/>
            <a:ext cx="37098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lmed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elevisi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elevis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corde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adio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nternet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295280"/>
            <a:ext cx="16700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 to SEM Business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3.1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447920" y="1371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nd provide examples of spor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ntertain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dustr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02920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905120" y="2362320"/>
            <a:ext cx="67053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ublish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Digital Media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roadcasting-Satellit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atre and Performing 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inos and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e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me Parks and Amusement P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50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3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Intro to Basic SEM Princi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3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1:54:05Z</dcterms:created>
  <dc:creator>Copyright © 2012 by Sports Career Consulting, LLC</dc:creator>
  <dc:description/>
  <dc:language>en-US</dc:language>
  <cp:lastModifiedBy>Chris Lindauer</cp:lastModifiedBy>
  <dcterms:modified xsi:type="dcterms:W3CDTF">2020-08-10T00:48:15Z</dcterms:modified>
  <cp:revision>259</cp:revision>
  <dc:subject/>
  <dc:title>Lesson 3.1 - Industry Segments</dc:title>
</cp:coreProperties>
</file>